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639709"/>
        <c:axId val="55469990"/>
      </c:barChart>
      <c:catAx>
        <c:axId val="426397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69990"/>
        <c:crosses val="autoZero"/>
        <c:auto val="1"/>
        <c:lblAlgn val="ctr"/>
        <c:lblOffset val="100"/>
        <c:noMultiLvlLbl val="0"/>
      </c:catAx>
      <c:valAx>
        <c:axId val="554699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397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534-7C0C-4191-8373-057DEC97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E57-F47D-432F-96A2-3DE1B20B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65C-A90F-47CA-BC9D-3A741059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2F02-41C4-4778-B2BE-037004FF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29E4-D7E4-4B03-8E36-791354B1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D7F-9D36-4E51-8FDF-5A27089F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0AC-C7FC-45A6-9E33-B584551B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715-62B3-4AB3-A5BD-05807AA3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952-CE1B-49D3-8DF1-876BFB4F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D9A-5CDE-48C6-8804-0A43FB9C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D8DE-8B7E-4079-8F69-1C0F54F1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A299-A889-4E44-82B0-038B979B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E9909-33F9-4801-94DA-B167199391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