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626147"/>
        <c:axId val="55101308"/>
      </c:barChart>
      <c:catAx>
        <c:axId val="78626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01308"/>
        <c:crosses val="autoZero"/>
        <c:auto val="1"/>
        <c:lblAlgn val="ctr"/>
        <c:lblOffset val="100"/>
        <c:noMultiLvlLbl val="0"/>
      </c:catAx>
      <c:valAx>
        <c:axId val="551013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26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68BC-FB11-4FE1-9019-D9D12436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133C-1BD1-4D2B-8151-F02ACFCC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4A7A-F570-49AF-8B19-E9DD03AF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36A-36D0-49CC-A146-41CC1896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3A96-179B-4185-96EF-DDD767C7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D776-DFBC-445D-AA00-724A6F13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D10-BC2B-4343-AD33-EBCD00EC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B136-98DD-4CC6-A654-85505D98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F4D-8D92-4EA3-8CEF-67EA43FF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11D6-5EDE-4D5A-B6DD-580633D8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D889-082B-481B-B394-D317B68B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C64-5C2A-4A23-BB14-00CE85C3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404F14-D2C7-4946-A637-B8C30450FF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