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6044"/>
        <c:axId val="69746642"/>
      </c:barChart>
      <c:catAx>
        <c:axId val="4816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46642"/>
        <c:crosses val="autoZero"/>
        <c:auto val="1"/>
        <c:lblAlgn val="ctr"/>
        <c:lblOffset val="100"/>
        <c:noMultiLvlLbl val="0"/>
      </c:catAx>
      <c:valAx>
        <c:axId val="69746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6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BA9-C043-43D5-A9C7-971E60D4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D2B-52E3-4837-94ED-8288C54D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DED-5F17-4A94-B847-E4072F9D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F7A-BE90-406B-BA3B-FCA575B7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F9D-B7BF-496D-A258-903CCEE9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1B1-2D99-4FC5-81C3-A2275CF3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981-323F-4B5F-9878-CC5BD2B7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3B8-8EC3-4170-B133-C321715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283-C639-4B60-B059-DC64E1B5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4B5-1883-48EB-BCCD-9B11830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4B1-97EA-4BBB-836E-4E74F7E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A13-596F-4641-A4F5-B4CB9BE0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4B0BB-5A59-42B3-9216-480590A449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