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69705"/>
        <c:axId val="96087745"/>
      </c:barChart>
      <c:catAx>
        <c:axId val="26869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87745"/>
        <c:crosses val="autoZero"/>
        <c:auto val="1"/>
        <c:lblAlgn val="ctr"/>
        <c:lblOffset val="100"/>
        <c:noMultiLvlLbl val="0"/>
      </c:catAx>
      <c:valAx>
        <c:axId val="96087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69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AAA-97EB-4033-9117-C450AD98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204-C87A-4BED-88CF-0961568B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3E5-8397-4065-8915-C98A03E6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7E2-8A23-4968-8DAA-49D3F003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A4D-47C2-4968-84BE-A3EB34BF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613-5541-4DD1-A8AB-05DDF13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7FE-3F5F-4140-AE38-C3A9B30D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81C-DDEB-41E4-B4B5-4B94393A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435-2CAA-4B4C-AA9B-63CD132C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292-1EA3-4B9B-8E73-FB5BCBD4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D75-F6B7-4A8D-9AE7-17C89381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FAD-2D62-4E76-833B-0976251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52C21-05B2-4C0F-9641-1164711E8A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