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20707"/>
        <c:axId val="46111792"/>
      </c:barChart>
      <c:catAx>
        <c:axId val="18620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11792"/>
        <c:crosses val="autoZero"/>
        <c:auto val="1"/>
        <c:lblAlgn val="ctr"/>
        <c:lblOffset val="100"/>
        <c:noMultiLvlLbl val="0"/>
      </c:catAx>
      <c:valAx>
        <c:axId val="46111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20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A35E-7B76-4DD7-B126-9BDD9C7B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6D4-A632-4A0C-97FF-AE5FE9F4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47BF-A11E-4F7C-B8D1-787F2A8D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2294-D0A7-4F27-8DF9-DF140C4C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3EA-5FF8-471E-AFB9-502EE1FE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DA1-25FB-45BC-81B1-8E153FF8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B7D-24CB-412A-B777-72D8D69A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0B3-8440-428C-8818-2E90566F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806-072B-41D7-846C-C57853BF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7A3-0781-42C5-AB10-93E1B6C0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456-F4DF-4988-A344-1D77E9CA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519-7D4D-436E-9F5D-9E4D189E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F2591-0F70-4260-9380-BDA64AFEDE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